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01E8-BA4C-410D-BA36-BC5540CF9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0556-7BB8-48CB-AA7D-3DF7AAEE6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BD3E-FB71-439D-883B-9AFEDB8DD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1336-EC70-44EC-A789-FAB8758B5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0BD6-4F3B-4101-877B-25647BAEDA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497B-0AC7-41F9-BEE9-E26E613DB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2513-B567-4A5B-8836-C34C03CF0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82EF-CC8D-42B3-8BC3-05849C1E8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2228-151D-4E4F-8D91-5F33D5DA0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5E21-F551-423D-92E4-7BB76CC6DE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9B49-D4C4-4066-9E08-8C83EE7AEC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E9DA-8298-4D8E-BEDE-333C9670A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0E75-D99C-46C6-8758-422F98669E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1F68-56DD-46AB-87E3-5F0716926A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519B-743E-4A66-B2D6-18078A3C3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CEDD-5585-4BDE-9D7B-B0B2E51D4E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1A57-B200-4B6C-9163-34FAEB2EC8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DD4-984D-4F61-BC5A-DA1F5AFE4A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256-058E-4240-9191-5E602A8577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3A1-B660-4D3E-921A-A759107A7F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0AA-3A27-48CF-A07A-D2EE103846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9D7-9407-4AB1-BFD5-6C88356C6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7408-41FC-42AC-9663-F1474BA886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4E3-1BFD-4017-B462-BFD7C1C1A5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448-F43C-42BE-A3C0-46AE90AA9C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C39-DA8B-4708-922A-0F589DE368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E7D-6743-46B0-B164-A44E8CCED8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0CD-509D-4520-8179-7F887F17E3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6B3-762C-4D7C-8C8E-4939CED6A2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9A4-1785-4C4A-ACFA-A829CE0FC5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8D1E-F5B2-4561-800B-6255FE39B3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CA634-5CE7-4800-BE3C-531B117C7F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8D99B-EB9A-4C97-ADA2-887CDF8D3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677A-4383-4BAF-9F0D-739EA36607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A7D5A-4372-46BE-9A56-7A23A3C310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D8589-8FE6-40F3-B85E-2CEA05156C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8BA41-292D-4042-8FB2-1BC19D9048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97361-A9B8-49BC-8407-9D47D11730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B9210-6539-4F8D-9316-C7B077EE73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0D2D7-1C6F-44E1-9C15-80AEA8B366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7BC66-F0D6-40C0-9D91-ACEE6D7E889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73DBF-2D0F-4D5C-8E05-6733C3DDDD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19658-1109-42B5-A7C4-2350D20BE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163A-13A6-4663-8103-04D1122DF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8D3D-337B-45B6-83EC-D0C7DCEA2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0F44-CEC3-4EDB-B0D7-CF4DBA38D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5637-274F-41E3-88FD-EA0126473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7EB9-ECBE-42DB-A7CD-B738C2AA0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1340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65A1-AC87-4286-9A10-0014586D0017}" type="slidenum">
              <a:rPr b="0" lang="en-US" sz="1200" spc="-1" strike="noStrike">
                <a:solidFill>
                  <a:srgbClr val="d1eaee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1340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364A-6D8F-4D37-9C95-B28EE6802E04}" type="slidenum"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80" name="AutoShape 2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83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8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86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21340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E8F-0A41-4590-B2FA-F1BEEE2060D0}" type="slidenum">
              <a:rPr b="0" lang="en-US" sz="1200" spc="-1" strike="noStrike">
                <a:solidFill>
                  <a:srgbClr val="d1eaee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 flipH="1" rot="11220000">
            <a:off x="3164040" y="1108080"/>
            <a:ext cx="5257800" cy="4114800"/>
          </a:xfrm>
          <a:custGeom>
            <a:avLst/>
            <a:gdLst>
              <a:gd name="textAreaLeft" fmla="*/ -360 w 5257800"/>
              <a:gd name="textAreaRight" fmla="*/ 5257800 w 525780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4" y="0"/>
                </a:lnTo>
                <a:lnTo>
                  <a:pt x="21600" y="788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251" dir="7502171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 flipH="1" rot="11220000">
            <a:off x="8004240" y="535932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12682" dir="12875538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 flipH="1" rot="10800000">
            <a:off x="-9360" y="5816160"/>
            <a:ext cx="9162720" cy="1041480"/>
          </a:xfrm>
          <a:custGeom>
            <a:avLst/>
            <a:gdLst>
              <a:gd name="textAreaLeft" fmla="*/ 360 w 9162720"/>
              <a:gd name="textAreaRight" fmla="*/ 916344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ebf8">
                  <a:alpha val="55294"/>
                </a:srgbClr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AutoShape 4"/>
          <p:cNvGrpSpPr/>
          <p:nvPr/>
        </p:nvGrpSpPr>
        <p:grpSpPr>
          <a:xfrm>
            <a:off x="4376880" y="6242040"/>
            <a:ext cx="4773600" cy="622440"/>
            <a:chOff x="4376880" y="6242040"/>
            <a:chExt cx="4773600" cy="622440"/>
          </a:xfrm>
        </p:grpSpPr>
        <p:pic>
          <p:nvPicPr>
            <p:cNvPr id="130" name="AutoShape 4" descr=""/>
            <p:cNvPicPr/>
            <p:nvPr/>
          </p:nvPicPr>
          <p:blipFill>
            <a:blip r:embed="rId3"/>
            <a:stretch/>
          </p:blipFill>
          <p:spPr>
            <a:xfrm>
              <a:off x="4376880" y="6242040"/>
              <a:ext cx="47736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10800000">
              <a:off x="4381200" y="624960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28972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F1C-538B-4716-93F6-4BC683F8C147}" type="slidenum"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73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176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177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179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0" name="Picture 8" descr=""/>
          <p:cNvPicPr/>
          <p:nvPr/>
        </p:nvPicPr>
        <p:blipFill>
          <a:blip r:embed="rId4"/>
          <a:stretch/>
        </p:blipFill>
        <p:spPr>
          <a:xfrm>
            <a:off x="603360" y="205416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160" y="3228480"/>
            <a:ext cx="7854840" cy="3467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Lucida Grande"/>
              </a:rPr>
              <a:t>Muny Choeun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68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71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72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74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Arial Rounded MT Bold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ヒラギノ角ゴ ProN W6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ヒラギノ角ゴ ProN W6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Arial Rounded MT Bold"/>
              </a:rPr>
              <a:t>Multi-function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Lucida Grande"/>
              </a:rPr>
              <a:t>Their Module –based system is constructed on a layered platform, making it possible to multiple functions to occur simultaneously .  Yippy offers same time full view and with each function dynamically set into its own layer, with overlapping control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7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8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8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8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6" name="Picture 8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8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9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9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9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96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9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0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0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0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06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0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1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1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1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6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1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2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2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2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26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2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3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3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6" name="Picture 8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84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187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18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190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Lucida Grande"/>
              </a:rPr>
              <a:t>Welcome to the clouds</a:t>
            </a:r>
            <a:endParaRPr b="0" lang="en-US" sz="4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Clusty.com will take you to </a:t>
            </a:r>
            <a:r>
              <a:rPr b="0" lang="en-US" sz="3200" spc="-1" strike="noStrike">
                <a:solidFill>
                  <a:srgbClr val="00b0f0"/>
                </a:solidFill>
                <a:latin typeface="Lucida Grande"/>
              </a:rPr>
              <a:t>Yippy.com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,  Yippy is a good and helpful site that helps you multi-task while browsing, if you are looking for multiple things on the web, surfing the web has gotten easier with Yippy. Because of its multi-tasking functions searching for things has gotten much easier on the web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95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198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19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0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02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05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08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0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1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Lucida Grande"/>
              </a:rPr>
              <a:t>Yippy.com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Yippy is a metasearch engine  that queries multiple search engines and combines the results to be displayed as a group, or cloud on one screen.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retrieves results form 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Lucida Grande"/>
              </a:rPr>
              <a:t>Ask</a:t>
            </a: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, who is their current sponsor.  The hardware mated to dynamic software sets through a worldwide  LAN using a virtual universally connected web–base operating system.  It also focuses on clean and innovative web development programs for all types of web activiti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16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19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2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1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2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23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26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29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3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3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36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39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4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4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Lucida Grande"/>
              </a:rPr>
              <a:t>The world first fully functioning virtual computer</a:t>
            </a: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Lucida Grande"/>
              </a:rPr>
              <a:t>The cloud-based worldwide LAN, Yippy has turned every computer into a terminal itself and on the surface it’s a one stop shopping for web surfing needs of the average consumer. Yippy is an all inclusive media giant; incorporating television, gaming, news, movies, social networking, streaming radio, office applications, shopping, and much more all on the fastest internet browser available toda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47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50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5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53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54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57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60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6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2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63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Yippy base on Skinny code architecture</a:t>
            </a:r>
            <a:r>
              <a:rPr b="0" lang="en-US" sz="5000" spc="-1" strike="noStrike">
                <a:solidFill>
                  <a:srgbClr val="0070c0"/>
                </a:solidFill>
                <a:latin typeface="Lucida Grande"/>
              </a:rPr>
              <a:t>”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Which combines clean scripting with databasing for a one time object loads and one time dynamic page loads and since the page aren’t constantly refreshed, the result in a tremendous reduction bandwidth and server space required and reduces the load time for user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twork User</dc:creator>
  <dc:description/>
  <cp:keywords/>
  <dc:language>en-US</dc:language>
  <cp:lastModifiedBy>training</cp:lastModifiedBy>
  <dcterms:modified xsi:type="dcterms:W3CDTF">2010-11-13T14:39:53Z</dcterms:modified>
  <cp:revision>1</cp:revision>
  <dc:subject/>
  <dc:title>Clusty.com</dc:title>
</cp:coreProperties>
</file>